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D52-FF09-4E00-8927-0CB3B35D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6978-5065-40D4-8107-1BFDA5AC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410B9-0B7F-4574-B73A-5D32BC51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3933A-1525-40F0-A74F-409D1BB4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22BDF-3596-4CD7-AF54-0492D520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D9183-4FBD-4EFE-B512-759910C5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ED711-DDA0-41DD-AC17-28980535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AEC5F-EA9B-4F19-B674-941D5328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CBFAC-FA18-4FC9-BC8A-CE8821FA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52156-AE3D-4172-8A44-36993BC3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F7D00-5BA6-45DC-ACB7-B341F50E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AAAF6-68FE-4722-9A1C-53DC445F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A863-0030-4483-91A1-552CAFD6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764A5-2416-417A-8F6B-1C192CF8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6E14D-929C-48B2-9419-FD8555C2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8DAD7-AEB9-4357-A363-01CD6298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D190A-815B-4A82-9B5B-30B9FE31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49715-16B0-4BE6-A3FE-A97549B2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C6F1C-2447-4ED1-8264-6A3E60B5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53859-58FF-4DB2-A9B3-CA0639B7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B3DC7-481E-448B-A5DE-903850FD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B503D-E2F3-41EE-9D85-136B7C6A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DFCAE-F9E6-4E74-978C-1BB44BEB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F5B6-E688-4407-A31E-E2F323CC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B285D-E058-4F58-BF0F-E1818D00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111AB-BA1C-4122-93AF-6F3AAEE0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B137B-2AFE-45DF-AD3B-E89FD5FF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C0692-021D-4D51-A742-5C81BE83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15205-9ADF-4544-B730-840CFAE3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D0484-E2EC-4451-B509-96427B4F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3206D-135C-4CC1-9991-D1E98F95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3DF67-6170-444F-B327-3B1AA9F2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56EA0-084B-44CB-BB50-D88D0BC8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7955B-327C-4716-B3A5-889551A1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FD45-F5BE-4D32-B474-3CB1A8B8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E999B-44C6-4A65-967A-C03292B5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D7E22-3D38-4A64-8F75-144B2A33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458CF-1579-4740-A9C8-8F0C741A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9464C-F816-415B-A335-FF38A428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88CC0-875A-4993-873F-C0B198D4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AB8B3-F69C-4F27-9BEC-79FD652A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5F149-D294-4BDB-A862-D7957CE5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A9E4B-0235-48F3-9814-AFAFBFA5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BA937-9357-41E9-A92F-15AE87EE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3FDD9-4191-4D36-867E-03B0E313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E613-AFA9-45A3-BDD3-4C415538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40A52-9EB8-468D-98C2-CD9F462A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46B12-9C57-4993-B78C-51FDA082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1919E-DEB8-4D07-9240-16E79C34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D4A23-2CC9-4CF3-83E7-55880490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F211F-473B-4C49-A578-A0748D33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7E651-2037-49EB-B0BB-CD677CA6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E647DF-82D6-47DE-B89C-254CDFA2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7C79E-B33A-4665-A6CE-53799D02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2FE4A-594B-4BC3-A402-CEC6DA1E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97E78-21B4-4910-AD6F-AB19F892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0F41-DBD5-4BA4-B7FE-C256E991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B3111D-8FE5-47C8-97DA-FA48E255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A7F33C-8386-4ED7-815C-F842D27C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C2FAB-0027-4F8E-B3AC-FAFCC343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BB4CD-FBD1-422F-9CD6-9167F741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C3CC3-3CC3-4F83-9FB7-DF572F73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B64DE8-4CB0-4E6A-A79E-5B4DB08D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D633ED-88BD-4623-9F48-A95463E2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F2D1B-873B-482B-ABFE-F74DE8B5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94DC0D-2D6E-404C-896A-8C428FC8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0E7D06-CAD6-4DDE-A01D-1975CAA2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A911-8543-49AF-BC19-C813568D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84D908-3627-4D1F-9123-C84FDD79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767F88-E0C7-4E0D-9F7E-5BB535F8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189709-8EF4-48BD-9D5C-C2C2F0F3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A890A4-3771-41DA-8150-9018C999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01AA3-7E5F-44CD-8B34-A0CF15E6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61223-27CC-47CF-96D9-4A3D5A2D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37FFA8-0DB5-47FE-976C-85CB3B66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63025-B41F-4558-B968-E7176EF5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49E512-74C0-4A7A-911F-EAC1633F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37B59E-0EED-481C-B92E-3FB4E13B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84A1-27E4-4775-B8F5-592EB34A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6C996E-E2F9-43C1-A61A-1E327844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267CEA-D529-45FE-9C96-28939AF9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2BACDA-88B9-4549-B02F-90985636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BF3C52-74AA-4846-8BB2-CDEE1988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D9A8DD-9073-42F3-BB52-2D964B50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330E40-4229-4E6C-8371-E2DE6C51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EBE173-E45E-4F5A-9EF3-86220B32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8B7DE0-0BF6-4B95-896F-FE1B2122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B1133D-3608-4EA6-BCDA-645EDDC7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49AFF-0915-4268-B4A4-C0C0F75A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F903-ED7C-4AB5-9DC9-E46C481F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B29EE-E106-4E20-8578-7D08F6FE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3D217E-048A-4DF7-BA0A-223545E5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A87651-04BE-4251-BC2D-D0319570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A48862-CD65-4622-A443-80F89AD7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947A31-2971-43B2-A49F-FE42EB71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4CDEDE-C018-42DF-A6C5-46F45F10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8AF772-B54D-4C26-931E-514ABD93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AF5C6-73A5-4CF6-A081-F1D999EE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C1F526-14D9-4C3A-BF1C-77441D5A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5E257E-E388-4E98-973D-495B9479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3FB4-5DF5-428E-8248-BB57C1BF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5B495A-1EFF-4C9C-B9EB-09B7AF89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F3A122-FBF8-4A1A-8F01-708597A9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E34A21-206F-4127-9E36-1DAABC4D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11818D-BA2A-4BAD-AE7E-DD223A55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DDD03D-E25E-424B-BAF3-3663D896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37B96C-D720-4B4D-8C03-5D7823D4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EB163D-2414-4B73-B5C0-4E36F8E1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077E5E-66D1-42EC-BB7E-1A175321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3398B0-B60C-4054-9CAF-70A9D160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A7A3DF-F1FC-4F09-894D-81C0AFD8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4C1-1130-4CE8-BE69-077378BC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55FF-13F3-4875-B10C-A338FDC1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5D0836-D915-4EB6-B1F6-3295D14D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745DB2-D1AE-4E89-8E4F-B7FF3461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61F27E-B3BB-4228-8ECB-AA2A6353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F166EC-1F23-4540-A2F2-FF53E7DA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DCCD76-9C75-41E0-8A1D-4C2C1F46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D10DB7-D2E8-4B4E-878A-4B362912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F25237-8E08-4891-845E-6A0BC91F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5C1A1F-E0FC-49DC-863E-E09B3747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E70AA0-B845-4CC0-AB4B-7E64CD59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83BEB3-47EF-4CC1-842F-E04F10BF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92B8-6D2C-46A0-A6F0-56A33A10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DAF263-77A6-416A-AFBD-1646FE96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FE6138-D7F5-4C49-A734-B526CC18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F0D157-6889-4CC4-BABD-CBDDC920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1F4144-AEA4-4845-9154-82A7875C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D24BFB-6E33-4982-9EC9-E6BAC9F2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436596-AEF2-4A0F-A432-245808FF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CCE766-0A98-4B00-82FE-A2900044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8E7533-839F-43B6-BCA3-70DC4D46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BCCC28-E211-4707-B832-3E7B3120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E13AFF-6320-4DAD-9DEE-5C8C4A01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4051-6DF0-440D-BF49-2799F23E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E906CF-0C48-4E8A-B9BE-ACFEA4D5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7DEDD1-84E6-4F6D-BB2A-BCA5078F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51F8E4-3798-42F1-AEE8-59450F83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965497-5BD2-4719-8F7C-5A470247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112333-B0DD-4468-BDE8-7755F845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11A40F-54FF-4271-B10F-B49586D3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49AD88-2F7B-40C2-A3DF-686EDE89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9E6211-AEAB-41CB-AB65-762E026F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E05B25-DB4D-44DC-993D-7A0F4D6F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216C50-DBE2-4EB9-97DB-6D92C975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142E-8270-424D-9651-D4F1053C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976989-6440-410D-BABC-41ECD9E2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E30ECF-3E62-469B-9D86-B199CC20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6461F5-C7FE-4907-9493-52D102A0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9C0B2F-0F1B-4D48-8456-77EDA227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089813-5BEB-46CE-8B95-FF7937B0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3FE4B6-313C-46A7-B760-CDD34E9A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890556-CACB-404E-987F-453CB8DC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5584C3-D65D-496B-BD71-B08E9280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257459-3490-4A69-937F-901EF99E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FD055C-D7C7-4854-949D-AF347E47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C146-2490-4D23-BC03-C940D5D9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312AC2-3CA6-4999-977B-0AFF255F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C83FA2-6472-4A11-9297-15891814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DB8FAD-7130-44BD-94A4-F53D386A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1D5E91-ED87-47B9-A719-55997D62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F950D1-4B14-4EAC-B68F-DAE117D8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74A12F-34C3-42BA-9394-25EF835B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DBAEDD-49B5-448E-B2FF-54D83F49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39EA8B-EC44-43C4-A4AB-DA9EC40A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0F39EF-14B0-4844-BA07-FDCAA99A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DA322D-BF34-44BA-AFF9-BB8AA984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F9635-5DC2-4102-A2D3-529CFC64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8BC9C7-4EE1-4221-944C-6DA38E4F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1C498C-5918-46C0-91CF-83F93787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289C8B-646D-4953-BFB0-8716F5FE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6A96A-DD29-43CC-BC6F-04CDFE3C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F9882-3B7D-452E-A65A-D37A40DE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5354B-6762-4C2B-B2B2-53EE7A4E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7306E-B9F4-4680-8EEC-674D0EFA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1DA-46D0-479A-9718-20A7B865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7F707-CA07-43B7-BFB6-60CFC3FA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6E508-FD41-4DDB-A85A-7C0A26CC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5FEFD-CAD0-4316-BBDC-B3F5166B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DF6D1-8B77-4E95-BE2F-9C61C493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547EB-D3C3-40A6-96BF-D2C0D017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FB4AF-A47C-4D1E-8797-5163EB13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68E06-AF74-4539-B45E-DD80BB6B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C9342-7F97-4490-B5C6-87C12BC1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89C89-F932-4FBA-85C2-AB4779A4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59EE0-CA9F-499B-BA5C-FBE40FB4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5063-567E-47DE-967F-D53BB026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6326D-EDDE-4535-8B84-450445E9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3F4FA-ECE2-4F0F-B785-875F82FF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36BE3-37C0-44EC-8E41-5A284458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AEACE-B718-4805-81EA-ED6EFBA9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60F6A-AA9D-447E-B56C-6F17B0B9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26387-149A-4A3F-946E-B6C0F702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AD6C0-F55A-46C0-848F-DC71D2CF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940FF-B8BD-4547-A243-E959FE53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0F68F-B954-4189-A557-A5BE3628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DECCE-2715-4913-83F6-EDAC2B2F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533-31C9-43BB-A8E3-8B761FBE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BE1A9-48A5-4813-B82C-D744B6B3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7F326-4DD4-41D7-8DE0-6BAA0950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2D5DE-0B72-42D9-81DA-7CC5B9E5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0EF45-B66F-45E5-8928-405C01AB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8BF04-C3EE-4F74-9210-1C8DA9EF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E0072-7C65-4955-8116-66C052CF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1FE2F-B1B6-4B56-95E7-4FB079DB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5EB04-AFBA-44E9-909C-FB21FD4D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981CD-E81D-4D60-A5AD-726F137B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6EFF2-1677-425E-8D11-24161A81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6AD-B9E3-4900-85B9-3D650607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D9DB0-A6AC-4C2C-98D4-F72210DD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DBD6C-B775-41C0-8299-CCADF360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76BBA-7C80-40C7-89E5-E855ADDD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69D4B-1496-4FF4-950D-EE4F9E82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6EC01-D169-4192-AC88-232EE3D7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C5FD0-6E46-46E4-885D-9B46E65F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DE6B2-D047-4D8C-905D-BA2C3753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9D383-D29D-470D-BFA5-35B82355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34BBF-2FF7-4F1C-A100-89EF16AE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C501E-0FF4-43A5-B630-40841662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F7E-9EDB-4C55-8D7B-FB69BCCC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C3C4A-EDF2-4ABA-ADF1-1497E92F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C7E64-84C2-4E8B-BE9D-9E8584AB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5C8F6-6B31-47CD-9762-8CCDCE6B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5558B-6BFF-4A3F-9E25-4B4E5B01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933F4-06D5-4270-A055-2ECF75E0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F54C4-A556-4A75-9AA2-F37230A8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AED9C-90EF-4BFC-848E-2DF1FA56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D1FB3-5C9D-4AD0-BF58-23742113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1F7D1-AB04-4A1A-A140-D2A75E94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27581-55A7-4562-8794-BB460F48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76EC-0ECD-41F8-8C3A-5F96E4D5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68486-FD96-4712-8526-E63D8DE0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B0066-2F88-4906-851F-57F4BECB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8BD75-CD1D-4A85-947E-39609938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D3C5F-B814-4EC8-A72B-E68D0C45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89066-018A-4221-8367-14F96BA8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70221-05C8-4B0F-8C58-31DDE12F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CE2FA-64EE-41F1-90D2-CC1F48EC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06F08-FE32-40E9-9602-3B22D4BA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7D79D-4098-4EB6-939A-01DFDAE1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40553-4213-4161-8CD0-2CFCC7B7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A78C-BF2D-46B8-B36B-EA78F0CD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CA263-8E8D-41BB-BF65-A1F66E1D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72093-2663-442A-AE0C-279D70FF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08D2D-2465-4B7D-B603-7B71EAD4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FF937-420D-4FF4-A1B3-02330F82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FCEDE-C2C9-4DF5-9B87-945546A8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90B23-3B9C-4969-8A9C-EABFD16B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F2D3F-4FAE-4475-94BC-F863B3C8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A56C1-7FDA-4B16-8A39-99F49A2F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39725-DBEE-4805-8D18-4B7DE703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B3C40-08EA-49E9-8824-16D69EE0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0FA4-7655-4D4F-805C-E1BC49298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9551-E59A-4C7D-A24C-C94815DB9E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610E-D0E5-45BE-9916-ADC9DAA964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E05B-B3B8-462B-903C-07509D4F61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D940-835F-4B47-8F1C-ED76EB7B9C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B992-B3D8-4F5B-8509-43F632135C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61B0-FA08-42B8-BEF9-CBFC4D4BC7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B957-EC2D-423B-AD56-BF42AF842B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7625-6FCD-49DF-908B-350FC1876D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8740-BE29-4B40-A727-7A92A5E421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7DAE-8A85-404C-93DD-AE948A601D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E364-9870-4D22-A2B4-2D73953176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32A1-6777-403B-BEB2-FD3660D721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1517-BB5C-4006-A2D1-F9F879C42A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9216-BB7E-4506-B156-D2B7BFC27E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8DCE-03A5-49D1-B540-C58458EA37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8E4F-678C-4A66-9D19-8EFCAC4AF6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8E22-BD0C-4402-B083-A6E6A294A0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E9CF-C871-4041-A1CB-A718311E51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21C1-DF23-4A00-A8EE-7317BF8ECD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F3F9-84E0-4837-B4EA-5EE80E9DE9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F168-D49E-4714-94AA-50CDD1B12D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FA0B-B703-4701-B4F3-BEA3B55C77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90E8-ED30-4DF9-B3AE-4C72750A77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856E-C708-4F3C-ACC0-0CECA25E92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7175-E219-4987-8B15-DCBD8C5495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58D3-2914-40A2-B886-E7B447379B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2629-8F27-4AF0-896A-5CDF21D1A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6F80-C684-4CEF-848F-478BA08B71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8E57-03F7-4826-9D52-8D45DE949C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269A-BE94-43C6-8C3B-4010BED0C4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5122-E8C5-4765-B418-FD4C5B302B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8C2E-0C94-4ED9-B65B-2E7D057055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3DFB-720B-4BD4-9C5B-A36F56BDE2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000D-1A95-472F-8790-424DB17B27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72AD-4A28-4E63-8D55-E5A664C504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E7DA-7342-4F41-B697-7318BC98A7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F806-28AE-45CE-ADF6-04D2AD35C9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6108-4F88-4134-B035-CE48F3634E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ACE2-6472-46A7-8380-65879F3C21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352600" y="2881440"/>
            <a:ext cx="443880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9600" y="1222200"/>
            <a:ext cx="9063000" cy="169884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90360" y="3032280"/>
            <a:ext cx="9012240" cy="3246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87280" y="2593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2987640" y="26082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4788000" y="257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6516720" y="2593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8317080" y="2593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1187280" y="44798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4211640" y="44798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8431200" y="44798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2340000" y="59198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3"/>
          <a:stretch/>
        </p:blipFill>
        <p:spPr>
          <a:xfrm>
            <a:off x="5364000" y="5921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4"/>
          <a:stretch/>
        </p:blipFill>
        <p:spPr>
          <a:xfrm>
            <a:off x="7236000" y="59356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192240" y="1136520"/>
            <a:ext cx="8246880" cy="169560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2" descr=""/>
          <p:cNvPicPr/>
          <p:nvPr/>
        </p:nvPicPr>
        <p:blipFill>
          <a:blip r:embed="rId2"/>
          <a:stretch/>
        </p:blipFill>
        <p:spPr>
          <a:xfrm>
            <a:off x="264960" y="3317760"/>
            <a:ext cx="7913880" cy="2409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5349960" y="25210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971640" y="25066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7596360" y="250668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3203640" y="25225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971640" y="37450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8"/>
          <a:stretch/>
        </p:blipFill>
        <p:spPr>
          <a:xfrm>
            <a:off x="971640" y="41641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9"/>
          <a:stretch/>
        </p:blipFill>
        <p:spPr>
          <a:xfrm>
            <a:off x="971640" y="4595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0"/>
          <a:stretch/>
        </p:blipFill>
        <p:spPr>
          <a:xfrm>
            <a:off x="971640" y="5013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3:23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